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E46-66CF-4ECE-A102-158DDA76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56F-E465-492D-9457-24FB520E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23F-89F3-44D6-9EF9-C89B2EC6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441-1C82-46F9-8BDA-39C133F3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413-152B-46EC-9B67-CFEB0122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AB7-5AB7-4F77-B1D7-78AAE9D3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DAA-39D3-4A09-9663-3AF7D2CF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8F3-64BB-4206-9F45-C657B760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053-B2CC-4C74-9B1C-06BB92BD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61B-E08B-414B-9262-99735CD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4A7-AE13-4BB4-950A-AE0CA9D8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14A-55FC-4B6F-8B2D-D56C6E7A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BF70-6F10-43BA-BDC8-9FE0D4A1150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03 Keď sa vôkol búria živly desiv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má iný ruže a ty tŕnie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mätaj na Božie sľub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ý de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čítaj všetky da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é nemá sv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nad Božie dieťa šťastnejšieho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čítaj dary, ktoré Pán ti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čítaj dary, ktoré už si vz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čítaj všetk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čom ťa požehn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tvojom zaznie nová pieseň chvá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vôko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úria živly desiv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bavy keď dušu trápia tiesnivé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čítaj všetky da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é Pán ti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ňou vďaky znova prines obeť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čítaj dary, ktoré Pán ti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čítaj dary, ktoré už si vz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čítaj všetk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čom ťa požehn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tvojom zaznie nová pieseň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ažké bremä keď ťa k zemi stláča sná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je ľudská pomoc már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bu hľaď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čítaj všetky da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zdáš Bohu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rád každú star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e ti n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čítaj dary, ktoré Pán ti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čítaj dary, ktoré už si vz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čítaj všetk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čom ťa požehn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tvojom zaznie nová pieseň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16:50Z</dcterms:modified>
  <cp:revision>23</cp:revision>
  <dc:subject/>
  <dc:title>Je veľký náš Pán, on slávy je Kráľ Nech do všetkých strán  spev vrúcnych znie chvál.</dc:title>
</cp:coreProperties>
</file>